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F49-1DB8-447F-9BF1-31A13D7A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30B3-F183-40A3-AB1B-8513A1CD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165-011C-45ED-97E0-4028C334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37A-446D-4B09-91E4-9DE9DE82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C44-57C2-41E9-AF8A-8E75658B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666-D508-4F8D-A375-04F62FDF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8FB-5E27-47DC-B842-A58F7B7C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4C8-4770-4781-B06C-8DD670FF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87D-62A5-4093-A018-E7D0E4B3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51F-C2E2-4260-A647-30E5ADEF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81C-7561-4D21-A0B1-86375F56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5DE-3A8D-4C88-A86D-A67B7896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618E-FED9-4B21-991C-DC5668F3F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67652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quations and Inequalities Involving the Absolute 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6999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4259160"/>
            <a:ext cx="8839440" cy="22179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0" y="418320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52280" y="1523880"/>
            <a:ext cx="9144000" cy="3119400"/>
            <a:chOff x="152280" y="1523880"/>
            <a:chExt cx="9144000" cy="311940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152280" y="1752480"/>
              <a:ext cx="8915400" cy="2890800"/>
            </a:xfrm>
            <a:prstGeom prst="rect">
              <a:avLst/>
            </a:prstGeom>
            <a:ln w="9360">
              <a:solidFill>
                <a:srgbClr val="0066cc"/>
              </a:solidFill>
              <a:miter/>
            </a:ln>
          </p:spPr>
        </p:pic>
        <p:sp>
          <p:nvSpPr>
            <p:cNvPr id="48" name=""/>
            <p:cNvSpPr/>
            <p:nvPr/>
          </p:nvSpPr>
          <p:spPr>
            <a:xfrm>
              <a:off x="152280" y="152388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0" y="243000"/>
            <a:ext cx="9144000" cy="1966320"/>
            <a:chOff x="0" y="243000"/>
            <a:chExt cx="9144000" cy="196632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152280" y="318960"/>
              <a:ext cx="8915400" cy="1890360"/>
            </a:xfrm>
            <a:prstGeom prst="rect">
              <a:avLst/>
            </a:prstGeom>
            <a:ln w="9360">
              <a:solidFill>
                <a:srgbClr val="0066cc"/>
              </a:solidFill>
              <a:miter/>
            </a:ln>
          </p:spPr>
        </p:pic>
        <p:sp>
          <p:nvSpPr>
            <p:cNvPr id="51" name=""/>
            <p:cNvSpPr/>
            <p:nvPr/>
          </p:nvSpPr>
          <p:spPr>
            <a:xfrm>
              <a:off x="0" y="243000"/>
              <a:ext cx="914400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0492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Supply the missing word, phrase/expression.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1523880"/>
            <a:ext cx="2590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57680" y="1461960"/>
            <a:ext cx="6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971800"/>
            <a:ext cx="2590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43480" y="2909880"/>
            <a:ext cx="6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505320"/>
            <a:ext cx="2590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43480" y="3443400"/>
            <a:ext cx="6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4100400"/>
            <a:ext cx="25909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34000" y="4038480"/>
            <a:ext cx="6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334120"/>
            <a:ext cx="2590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86280" y="5272200"/>
            <a:ext cx="6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867280"/>
            <a:ext cx="25905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86280" y="5805360"/>
            <a:ext cx="6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8-01-21T05:24:34Z</dcterms:modified>
  <cp:revision>11</cp:revision>
  <dc:subject/>
  <dc:title>Slide 1</dc:title>
</cp:coreProperties>
</file>